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CAE12-FF19-4F9A-88A7-358589F9C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6A0F4-8E23-4F13-B9C5-31990F8A5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B8FEB-88C5-4551-9BFF-AB902BCBE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A2059-5307-45B7-BDA3-2D34FC290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11322-B2BC-4873-9CC3-C7FC21B6F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F08CB-973C-48FF-A422-8A74A0DDC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0590A-5A3A-4C19-B858-80798619B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C8E10-8BBD-46E4-A8AC-D3070FB83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B0F9B-1F16-4124-931D-DA6BDD85B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8B617-4ABA-4D7A-912B-9D848076C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E2906-B6A0-4FE3-AA6E-02B02C4A2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73089-73DA-44C6-839A-C7F469AE4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10A89-AF6C-44B6-BC56-52D01B7498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304920" y="3200400"/>
            <a:ext cx="861048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eorge Halliwel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AA/AOML/PhOD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with Sundararaman Gopalakrishnan, Xuejin Zhang, Thiago Quirino,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ank Marks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80880" y="152280"/>
            <a:ext cx="85345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Idealized Model Analysis of the Impact of Ocean Coupling on Hurricane Intensity Forecasts</a:t>
            </a:r>
            <a:br>
              <a:rPr sz="3600"/>
            </a:b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(very preliminary results)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ssues to be Addres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28600" y="9144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pendence of forecast intensity 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ean Heat Content (OHC) relative to 2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°C isothe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m propagation spe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me scale of forecast intensity response to changing OH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this response fast or slow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are the oceanic and atmospheric processes responsible for the ocean impact on intensit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dealized Stu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9144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WRF Version 3.2, 27-9-3 resol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alized atmosp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form background Trade Winds (or zero win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ed with a weak axisymmetric vortex favorable for intens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itial mass and wind fields obtained by solving the nonlinear balance equation for the specified initial vortex wind field and the prescribed background thermal sounding and wind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alized Oce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mbed one-dimensional mixing models from HYCOM into HWRF 3.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PP, Mellor-Yamada, PWP (KPP used her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itialized using specified ocean pro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048120" y="152280"/>
            <a:ext cx="5867280" cy="32101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4267080" y="3505320"/>
            <a:ext cx="3962520" cy="3047760"/>
          </a:xfrm>
          <a:prstGeom prst="rect">
            <a:avLst/>
          </a:prstGeom>
          <a:solidFill>
            <a:srgbClr val="99cc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248520" y="3505320"/>
            <a:ext cx="0" cy="30477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590920" y="4191120"/>
            <a:ext cx="1520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chemati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en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omai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630120" y="3733920"/>
            <a:ext cx="123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cean 1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649040" y="3733920"/>
            <a:ext cx="123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cean 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010280" y="502920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58720" y="5410080"/>
            <a:ext cx="706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nitial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ortex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029920" y="5410080"/>
            <a:ext cx="706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Final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ortex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181480" y="502920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5562720" y="5181480"/>
            <a:ext cx="1371600" cy="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52280" y="1600200"/>
            <a:ext cx="2861280" cy="1618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ial Profiles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Cool Ocean (OHC=25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Times New Roman"/>
              </a:rPr>
              <a:t>Warm Ocean (OHC=80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Hot Ocean (OHC=160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160" y="152280"/>
            <a:ext cx="2500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Ocean Mod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Initialization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Limitations of 1-D Ocean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600" y="9144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glect impact of synoptic ocean features and background QG flow (not important her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gnificant shortcomings still exist in a horizontally uniform oce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s not properly reproduce near-inertial wave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ar-inertial wave energy propagates into ocean interior from the mixed layer, reducing shear and entrainment at OML 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cal inertial current response reproduced by 1-D model remains trapped in the OML, overestimating shear and entrain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s not account for wind-driven upwel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tical velocity can reach 100-200 m/day at depths near 100 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duces rapid upward advection of isotherms and the OML base, increasing entrainment of the upwelled cold wa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y important for slow and near-stationary stor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3581280" y="228600"/>
            <a:ext cx="5334120" cy="388764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533160" y="1523880"/>
            <a:ext cx="28612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Cool Ocean (OHC=25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Times New Roman"/>
              </a:rPr>
              <a:t>Warm Ocean (OHC=80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8360" y="152280"/>
            <a:ext cx="320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tationary Storm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12400" y="4419720"/>
            <a:ext cx="87987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oling levels out at 4.5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C (cool ocean) and 2.3°C (warm ocean) after 2 day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ML deepening ceases at ~100 m and entrainment essentially stop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absence of wind-driven upwelling beneath the storm is critical her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uld produce large additional cooling and presumably storm weakening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se ideal experiments should be repeated with coupling to 3-D ocean model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3276720" y="838080"/>
            <a:ext cx="5638680" cy="41101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997200" y="152280"/>
            <a:ext cx="711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low-moving storm (2.5 m s</a:t>
            </a:r>
            <a:r>
              <a:rPr b="1" lang="en-US" sz="3200" spc="-1" strike="noStrike" baseline="30000">
                <a:solidFill>
                  <a:srgbClr val="ff0000"/>
                </a:solidFill>
                <a:latin typeface="Times New Roman"/>
              </a:rPr>
              <a:t>-1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westward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444680" y="4952880"/>
            <a:ext cx="4169160" cy="1618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Cool Ocean (solid blue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Cool to Warm Ocean (dashed blue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Times New Roman"/>
              </a:rPr>
              <a:t>Warm Ocean (solid green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Times New Roman"/>
              </a:rPr>
              <a:t>Warm to Cool Ocean (dashed green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nstant SST (28.85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C; thick black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28600" y="262080"/>
            <a:ext cx="8686800" cy="63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4T20:39:09Z</dcterms:created>
  <dc:creator>Lynn K. Shay</dc:creator>
  <dc:description>ocean heat content, upwelling, mixing, sea surface temperature, altimetry, shear</dc:description>
  <dc:language>en-US</dc:language>
  <cp:lastModifiedBy>ghalliwell</cp:lastModifiedBy>
  <dcterms:modified xsi:type="dcterms:W3CDTF">2011-08-18T04:26:54Z</dcterms:modified>
  <cp:revision>241</cp:revision>
  <dc:subject>Section_5_MSC106</dc:subject>
  <dc:title>Oceanic Impacts of Hurricane Intensity</dc:title>
</cp:coreProperties>
</file>